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C69-C116-41CF-88E1-9A68CF7E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484-44A3-4631-A4DF-142FBE47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3AB24-E234-4E69-A719-B255B567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37371-BF0D-4E39-8F4C-070CA692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C0B31-D56B-430A-94A4-C224D0F7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74867-FB41-47E8-B729-85DF5E37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459FE-AF7C-46F9-836B-FD1CB54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2BEA2-2FE3-4930-B254-A9AEB82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A47C2-94EE-46F3-ABED-04C426F8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BC742-DADA-4A22-B3BE-AC1B0513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C0017-9468-4439-8EEC-2CAAF9C3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154B7-9898-4C01-B009-19EC90AC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F2B-29FA-4445-9588-341CB09B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3343E-6456-4908-9612-4FAA6E06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30569-4627-4BFE-A546-AD3330EF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809A7-ACB1-4F0A-B806-65FAB31F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C8EB5-A40B-4887-9326-30ABD92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EA165-8E7F-4680-A82B-25B6592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BE775-891A-4B8D-A91E-FA0CE0C1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3E565-E970-4C7C-84D3-C415F1D1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D8D30-23D8-43EB-9983-519ECB5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C5484-8D13-4AE1-BAA9-1C95ED9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3610F-16B8-45D1-9E41-C2CA7570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388-E8F0-4DF3-B223-1A34379C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056A9-7BDC-46A5-A76F-617E095E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8FEA5-A319-499E-99CA-4C989CE5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B743E-6C5D-407F-A782-9B4F7AA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A2E6C-C070-40A9-A785-4AA1B7C1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02203-3D4E-4C78-B9A0-F47396A5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49D0C-4CFE-44DD-A02D-55ED9AA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6B0BD-8F9B-4670-9813-B23DE49E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D23F2-584E-4140-8639-DC31441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320FC-9467-4361-A052-D3ED664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2C3D5-8655-4CA3-A5F7-6D2FC043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9E6B-C3B1-44F5-8F95-4CC7D801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881D3-1864-42FB-BB37-0559E443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128DA-D3D1-459F-A5CD-631E942F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06C33-B9F9-4407-8B5C-F1EEC743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339F0-1A2C-482D-9E29-E5DBD7EA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6B797-2ECE-4D2B-B9E1-D5F95F52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6C980-03C8-4C01-83E0-CDA7F963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E1AF8-8F8E-4420-BA4D-8B3D9509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CAAE5-6EDF-4A36-9BCA-25A4313E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FCB22-F0CF-436C-9FAA-759890A3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0A264-2C91-4661-9A3B-23B66DF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A04F-8C0A-48BB-A748-21B96624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2F2C5-0577-4DBA-87AE-DC8B3542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C1C2D-536A-4F23-A368-0725C91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3843C-16B1-48AC-8CE1-3C3AFEDB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4C4A4-ACC4-4E89-8954-8066FA2E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03570-71C9-4622-B88C-CC4B10A1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82B1E-E129-4E9B-965E-C54E6DF0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D8FFC-188F-43FB-9A8D-7523047E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A7777-9128-4BD5-92DA-70A44B11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FE55C-23EF-4672-BAAF-AFC57882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BA6A9-FF20-4BAF-BA1D-DED77AAB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4C31-1674-4C83-971D-5E765053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1A5ED-1C23-494B-A3E3-2A82ED0D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91D7D-F494-471D-9237-B4C017B4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B4B09-58C9-4234-9869-905F9CC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563C2-BF55-41BC-B597-FCBA2021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6C1B1-E2EE-45D7-8756-2AEF393B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22E99-65E1-4632-8D2A-7B4F7E26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6B192-9D7C-4F6E-B949-B1D7A8D5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2FDF1-611A-4D29-86FB-98547EC2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F2DD3-40D1-442B-B9D0-531EB7A0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761CC-A7B0-41BD-8D34-CC245FA7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151C-BCE9-4CDB-AC82-7C2BA220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5A703-51FA-4E22-911C-60569FED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8C337-31D0-4653-9E77-61C5F61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DABB9-6ADA-437B-91CD-1843ED9D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600BB-1DC4-4ADB-B6D3-CB12C753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CCC3B-BF8E-40DC-89FD-C6807C1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DE2E0-7F0E-4FC8-8198-8307B18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20AA4-FE0B-4DDC-8E30-0E547824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91676-464C-4ECF-800B-D3FAD7E8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F63C8-EB26-49A9-9F9A-D5B2396C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C6B7F-FC16-4E90-BA60-8442BF33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1220-3A52-43EA-868A-3167CB9C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B12CD-8365-407C-B904-78DFD975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30B34-F247-48C0-9347-2C98A000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ACBC7-B8BA-495C-B19A-A4BB6587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4B237-D493-4459-AB09-723C28B2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34F9E-152F-48B3-9B4E-FCC10EE6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63C0A-3C7F-4E07-BC49-9936ABC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6C412-33EC-49A4-92BC-DAC5A538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11DA7-D8A7-42A3-806A-056FAED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F3946-2D14-41F0-AFD0-68710EF4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6B948-E438-47F1-B885-E1AD1381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0C26-EBC7-4456-A2C2-98BCE14F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8C232-485A-4758-BE60-12EC9A52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539B7-D0E1-44FE-8252-7B83FFBE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88F91-3046-4C0C-84F2-B93A4DD8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60A33-0F7F-4CE3-8E9C-3FD3F1D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66597-391B-4D85-BE2C-E871F66F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85CA5-4D0E-46A4-9F1E-D01A8D7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47BBC-9D6A-4D58-9F73-28CCBF9C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CAA20-DCC1-46E2-ADAE-83F70AA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43184-2F40-435C-8748-413C5374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688E1-81BE-46F2-9036-8C6CAF29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EC44-1CE4-421A-9252-DF23184F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52909-5A69-4A09-8417-7DADA0C3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9B113-7378-4281-BC52-F8F17542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3C660-14A8-4F37-8867-0FEA0007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9B711-08E3-4F47-B501-4EB691F1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1C7BC-D7F6-4104-8FE9-1FD596C0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1C6A8-AFDD-4CE6-B6DA-825130DB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2C4D2-FF64-4234-A698-3E13ED00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09601-AAF7-446A-A0FF-64020532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EEA59-6C40-44A9-94C3-B53A1E6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6742A-7884-403A-9BE7-E66A857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26C-2429-41BA-A3B4-7876BAF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1D65-F410-4DC7-9B9C-EFE53202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E3060A-2DF9-4AA4-96FC-4C87CD4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6232D-5B99-454A-9994-BF52BB49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418C3-3166-4C56-982C-D48326B6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A1E82-86AF-4E68-BB24-A7E99800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A70AE-6090-4B09-8D7F-85B259B9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03C0EC-E196-43FC-A763-2590983F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6E3088-B82D-48B1-AECC-D6DD702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D6E65-2A01-43D7-A8D8-7EE2169C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D1A2D-13A9-465C-9F73-F0DC192F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AE0A1-AE86-4CC8-A405-B6DE1B6D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042A-63F5-4742-8464-D2691161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A6903-DE0C-45EA-BD9C-2138CE58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4CC2C-947F-417E-9D35-67967BE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D125C-8E9E-4285-9F99-B764C73A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564AF-95EB-429C-AEE3-84E7EDBB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1B06A6-E9F6-4D01-AC61-76AA3D89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7F2AA-0034-4E93-A100-88FAEB25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187DA-25F9-4EEA-92CA-59E15365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27FDE-8FE3-4919-BFB0-0E0DB7B0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38F49-6651-4DC6-A9A8-2AF1A93C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86394E-1B80-4BF5-8C18-F4D5BE49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21A6-CD0B-48D4-BDF5-A18E52C2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3BA19-4329-4AC6-8113-A9727B4D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F7003-9581-4B48-A2B1-7BDE5EF5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CC62E3-90F6-43F6-AECC-2896D582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8B18D-05F8-480D-B666-37BEF15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3BCBA9-B538-4214-AAC5-8C808D27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985FF-1FFB-4926-A02E-C391F79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05B297-DC8E-4B1E-9A5D-B66EE5FD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7E16E-0D05-4D90-B601-7C36952C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99BD3-F6DD-4F99-960A-B0D2C4D4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6D9AF-444B-4C83-B9C4-30F866E9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4773-342D-4628-87AA-FEAE9964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EB92D8-72D3-4B38-A0D8-05A729C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F4364-D7FF-47EF-84F0-B30DD1E8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5709D-6A22-4E65-A8FD-83CF9FA3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2621C-A286-45C9-BE81-F9A5989D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A7193-7839-4585-8BBC-207B7F6A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1AA4A-C3D3-4634-A899-C3BE628D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99705-A88D-41F8-83DF-41159629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582F5-9CC9-43F9-BFD1-05A1B2E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41401-7C65-4326-8743-776A797E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1D1EF4-B698-49A6-89A2-DCC6B36F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6672-B8F9-48E6-A872-13D393EA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DFFC8-672C-43DE-8A83-0913E35F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745F4-414B-4CC8-B945-560E1834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4BD2F-0704-43FD-9CA7-3EE0C4A9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71900-CAAE-4801-9EC5-B45AD030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A2072-A97F-44E6-93CB-2D26E0F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07B2F8-4E3F-43DB-BA82-26D4E99D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E584C-1EC1-4DFF-B737-1B8B984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C303D-2AFF-4E8E-BC92-DEC8884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C6DE58-C9D6-43D4-A6B9-417F1A56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24E590-75A2-493A-8873-D8878B5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AE38-8874-46AF-8A57-0BBC2CA5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534401-5222-44DD-A27D-6578E2D8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C10FB-A740-498B-A013-131EA558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1FC1AE-5D17-4DC6-8825-32AC0DCE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5EBD-0E92-4752-824D-86CADE00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0362-8870-45CE-85F2-B9204C93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6FB46-BBC8-4344-BF00-8218E9F6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5AD24-94FA-412E-B135-659C14CD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67F-25B0-4DBD-80FE-515B8BF5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02F8-771F-4594-A4B3-D52762A1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18CB-5E48-4DAF-A9D9-EC9F508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E990-719A-4F68-ACFD-4EB0A29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AF326-E646-43A5-A273-FEB6346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25A8-4C77-439F-BF3C-B7CFC99F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71AD-F72C-499D-B8A6-58B08D07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BA3CD-7BD0-4721-A421-FE93767B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8C2D3-78FF-4C96-BC30-4E45C99E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032C-4B8C-40C7-BB88-C504ED03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1D8DF-563E-42C7-93A8-AD59D5F4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CA8-3F7A-41EB-92EB-85BF7D11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F3E1-0283-4ED7-A351-6CCA7205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997A2-5384-4776-9AC5-9ECB2C9E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E7DEF-BCE1-4A45-859C-54C146E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F173-A6B0-4AFD-8CB0-5790A47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E2AA-11F5-4EDD-A970-AEBDC34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BBB2-0B77-4E21-ADDD-BEB521A8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BE44-57D4-4966-8101-4123BDD9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A264-777E-420C-8114-9B2F2D35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92D46-4E40-4982-B6DF-0815CE1A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61B3-33DD-43F6-9155-C531F2CD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3D0-4F64-492B-BA4B-A52EC043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72380-90FB-4040-AF61-493C27A3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515C3-3E1A-41B2-970F-3A67BA1A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992EA-4FD5-40BC-9E21-DADF0ECF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E8AD-0A34-4581-8F87-9367C1FA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102C9-1B85-4E50-9468-130FCD0A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1F97B-F324-428F-BB3E-BA79F46C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5335-908F-4879-B9F1-8E6B4163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F30E-8B1D-425F-9F1D-6BBC409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75125-4E93-4C3F-8348-AA1F099E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260E3-B91F-4360-AD8F-0C42EF6A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2CF-06EC-469E-AF0B-28544582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79BF2-E74C-44E8-BBCD-127F5E7E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8355-2815-4D87-8F93-27303E2B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7472D-C3AD-4E42-9EF6-1AD54EA4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52A29-E5DE-4B76-9C38-F020120E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15BE2-DD8F-456F-8DE9-7393408F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F0E29-1674-4272-BFD9-3B309194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3BD25-1EF3-4998-8AD6-4E9403BD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01A25-6222-4B5E-85E7-FE81924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89DA2-B0CD-431B-AE04-11BCE2CF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AF84A-20AA-4E66-9AA5-547C3B50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C91-47BD-4E75-9ABB-8283BCF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F680E-F4A9-49B6-A4B5-335B32DE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DCEB-6297-435E-83A9-EBDA7A23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21FE1-6E6D-450C-A8EC-6B65F646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02FD-1FA3-424B-8998-08F0025E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CCB73-5AB0-4D64-ADBE-37DBBBB3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C63BD-0A41-44AD-9F7D-BDB47908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73FE-2348-4CB1-BB5A-BA55D406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1D9E5-D01D-47ED-84A0-36ACA865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7F13A-83F2-47D3-BC36-D8414359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C090D-49CA-414A-8CFD-8FB82375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AB4-DE8B-4213-9A9C-94E3C31C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A093A-23F5-4D4E-9995-AF0AED48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75D3B-8C93-4118-B72F-820072C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9C063-AE4F-4542-B3B7-A2F76CD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31775-D2E2-40CD-9BDF-0E4B3CB2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6551-3DC3-4B02-BC00-3E6F8A21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350EC-D3D9-40BA-9085-462F31B4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23215-471C-4FDF-B322-1BAC9B14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30305-A8B1-4C57-AD6B-60BDB6C5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AF3B8-4C20-44F3-8164-5C6A1FC9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A039B-BC95-45B8-818B-6F9450C4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91F-1733-4C7A-940F-F4E7C818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6DA96-E412-48FB-8C88-74A9F72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6A969-29C1-41CA-BDB7-A09F29C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13B6-9AAE-4843-9236-72948AE0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87DE5-6B48-4DF1-AE28-8066A3D3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BF20F-D6A1-40CF-BF68-62145A5A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0A1E7-DFD2-40A7-B319-7ED56F4F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653E-CF5C-4BEC-BC00-7D1467C6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C5303-E554-414E-8D42-60CF4192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8B31C-A75A-489C-981E-B3330D67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D26C8-4328-4EE3-BD0C-C283AE61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2E00-3635-4652-A686-00936C6D7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9609-7F9A-4FBD-A8C4-E91AAE0B55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EE4C-0D7E-4846-A6D8-F9F8F08994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BD89-5E72-4A3B-AE58-505655B49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E18F-D4F1-4A56-AAAB-94E586B16B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F576-BCF9-4EFE-9A87-C29EA42C2A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8D76-5F32-4A50-8C1F-3A4C34A19F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9F92-7665-4692-BDAD-1FDB0F3123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F89D-2398-46A7-AADF-FD126836C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52E8-3F4E-4270-86D7-1B24D7110F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674F-7F11-44AA-9F3C-4663FD3DBA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D1A9-BA0E-4E92-B90C-0FF62A57F0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FD5-2351-452A-A881-8ED93873FC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3890-58CE-4559-9CA9-86BE13000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86BD-113C-4D08-9AD6-2A3EEE777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3201-0F48-4398-B844-96C3FA5133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5E99-3392-40DD-A361-544D973095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9877-B66E-42A8-974D-814B1F90D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B1D2-EF2B-4224-A47C-48DC564C09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7574-8C1C-414E-8449-37B2AACC9E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1A96-85EB-4D97-A7E1-1E9307FFA5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43BC-3E65-44A8-B8B6-2C7DAB0CE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6070-2CEC-42E9-AD68-125117027F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2293-1B91-4391-9DBE-9B7D232B1D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B756-B8CE-458A-8BDF-6E7C35B24E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48D1-C8E2-4786-B087-81D9E283F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BF4C-EF45-42C3-92EA-7400E2A372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5726-44F4-4FA1-BDF9-59703B00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6730-F097-47EE-868E-DC1A1F76A5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44B-B1D4-48B5-A8F4-168944F59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3A53-D379-42FF-9618-0EDA8ED666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5657-1B86-4C09-B7BB-ECD66BC124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3776-747C-44E3-BF5A-2D5D5A8F69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44DF-D2ED-493E-AC62-C49895F74E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750D-ADB7-4C58-9E7A-5BE6237768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062C-F3E5-42D5-9A21-F4D2F5029D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4889-3287-412C-9402-195E00C320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CF33-FC36-4BEA-9DF1-1574A14507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3FA1-F68B-46D3-A676-0258FA0B36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090A-C96B-4AD9-B72F-45F82B2B95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71680" y="2976480"/>
            <a:ext cx="62006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28680" y="890640"/>
            <a:ext cx="8485200" cy="5076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7636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403280" y="378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403280" y="47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403280" y="558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2" descr=""/>
          <p:cNvPicPr/>
          <p:nvPr/>
        </p:nvPicPr>
        <p:blipFill>
          <a:blip r:embed="rId1"/>
          <a:stretch/>
        </p:blipFill>
        <p:spPr>
          <a:xfrm>
            <a:off x="-3240" y="1076400"/>
            <a:ext cx="9151920" cy="4705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778040" y="530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5940360" y="5300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233360" y="1967040"/>
            <a:ext cx="6677280" cy="29239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2340000" y="429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6516720" y="4292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14480" y="1114560"/>
            <a:ext cx="8915400" cy="46288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61880" y="1238400"/>
            <a:ext cx="8218440" cy="43812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755640" y="4091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128520" y="890640"/>
            <a:ext cx="8885160" cy="5076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2700360" y="374508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4500720" y="37591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2771640" y="45529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7885080" y="4537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6"/>
          <a:stretch/>
        </p:blipFill>
        <p:spPr>
          <a:xfrm>
            <a:off x="6227640" y="5315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7"/>
          <a:stretch/>
        </p:blipFill>
        <p:spPr>
          <a:xfrm>
            <a:off x="7885080" y="5315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3:2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